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606-06A1-46B1-83BD-F0122888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726-95AA-409E-87F3-C828A018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36724-FEB6-4255-B3A8-9E6C90C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46F34-9FA1-427A-BEE4-06A83C5A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FEFDC-E5EE-4C15-B9B7-692DC147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97E67-E397-47EB-B9DB-47FE0168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C07F1-6713-4860-BB57-E2B03E4D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B7BC5-E20D-4AEC-A4BA-D1418D21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4B733-89AA-44F5-9CF0-3AFCFF2B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0D746-D93A-4110-9F9C-79AE7F20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12296-D713-494C-B3BE-DEDF6FF4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16495-2ECB-4297-90F9-114C83B8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1F8-0E7A-40C2-A2E9-B8FCF081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7DC00-0CA9-4D4D-9407-2D4DB2AE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331EC-422A-47C8-92DD-818CCF31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2AFE3-64D3-490A-BCDA-470F09C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95101-5419-42E7-863F-ECE78B90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D03EC-9210-4D21-99A6-4A382451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C0195-4DB7-4F70-BAA8-0F3256B4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4AFCD-03D8-4FE0-8608-877D19A2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5BA3A-8FB9-4D1C-9812-78783768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F5711-AE0E-4E1A-B67E-0C4B8B8D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00E1D-5137-4C21-8E4B-5222E4B5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DA8-32DA-457E-A88D-8B98274A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BD300-502A-4D74-8424-4C6666D5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2D98B-2CD0-42AE-9E0F-499DF14B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FD98B-94C6-468C-B2CE-0490C7F6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B7D89-A773-4E61-85EC-8CA32EF8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C0247-887E-431F-A9BA-80BD40B9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C75D0-0D43-4301-8D9D-0700BB33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00BD6-45BF-46A0-987C-33E1C121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F398D-A5A4-45C9-B50D-B2E6F32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79ECD-AE0B-4EB2-841D-21E9ED0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B3CB7-C0C1-4C05-BAD1-1EA6A341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A3A-2AAE-455C-8024-812D5FE4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F179A-3369-4D2D-BC00-FEA8DE69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D1DE1-023E-4377-B9B0-00E9A31C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AA503-6CF9-4396-9068-E0482DAC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813EF-E49B-493C-8425-B8914E0F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E8850-82F3-4B80-8519-AA91DC80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BC607-7CAD-47F5-B21C-F82810A6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20FD8-3671-4981-893E-96CD657F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3C66A-D0DB-4E29-8483-63AC2156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80B78-1DA9-4354-BCCA-4057197A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19D3B-C03C-4F42-8019-83FF9A42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81B3-534C-4BB0-ACA7-9AE75FB5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76D04-9722-4098-997C-78605D1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E6F32-8FF5-4152-B880-DA25FB0E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E6524-FB28-40A9-83EB-EFAA1D9F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8A63E-6B09-40AF-B67E-43443CE5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91E75-A44B-4945-89AA-94291A68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E5D7B-5139-4F1E-830E-BF02F3B2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B8D1A-7FAA-4927-A173-E500DEE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F02DB-D952-4A5E-9351-34B9E2BF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D5CBE-D5F4-49BD-94EB-4F2AD774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06FD4-546C-46E4-B076-0D34F7C0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5B64-DBEC-4154-BF31-0529F66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8459E-1EA8-42D3-9EDE-C590E032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59CE0-688A-418A-8ACE-4644BC89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50391-62FA-48C1-AD23-E3B7BF0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4CC37-5586-45D0-B9AE-8A313D3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82B88-172A-4A62-9503-16FD8F9C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6D9BF-634E-4F21-A6DA-34E1092A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A9D40-B191-4291-9467-38D44593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02355-82E1-4369-BBC4-F863DF9B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DF62A-44DF-482C-BA57-798BF8B0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D102B-6ACC-41BC-8944-F4073A8B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8DE6-6ADE-4634-A3A0-E94AE19C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60214-B30E-482F-9965-F1DC1660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05269-2459-4EA7-8B52-97087EF7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55717-E4D9-4035-8C7E-305CD3B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F117B-CDD2-4F00-888F-824B5A23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2CFA2-41F0-4ACB-91E4-435FE8C5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C6371-B554-4F47-9E3F-02A09CA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6F439-DD9D-428A-84F2-74BE896A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84104-4ACB-411A-9F77-A6056108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5F0FE-21AE-41FB-ACAE-242DC362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BEA1F-B9A4-45A5-A0AE-24F7F471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BFF2-2D1C-4FD1-BD8D-9FDF70E1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E150C-663B-4A4E-8193-307C52D4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96808-97FB-4872-B136-5DB69E88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5C45E-9381-4AA9-B426-F23B19BF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6BE4E-6DE4-4BA7-8284-B660871A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3C0D1-B414-449C-9437-78095ABF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D5EE1-407D-4877-98A5-024E19D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1CBD2-0366-47FD-B47F-D12EBE24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88A46-6FA0-47BC-9490-7D62284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4E73C-B174-467B-824C-9F185030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7EADF-431E-4715-9253-4229483D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8B89-5AE9-4F46-84D2-E311CB58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FD64E-7F1D-4592-A622-3A1DAB06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EB7A2-351A-4712-9246-823289E5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689639-1A2D-4518-B058-3ADA624D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33924-7977-47AA-909E-6A7AE419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F05F2-BC1C-4D84-BDF1-F56E88A4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FD69C-F9F5-48F1-B8E2-785BA5DF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BE3C4-7F2B-447A-A9B4-D2568F52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2653D-1BCD-48E3-AD81-6D41712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8C57C0-05A9-405D-9829-567B18A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A2C33-FCC9-405C-940C-C321212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EA4E-8D01-46CA-B80D-1AE423E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D418F-A6C3-464C-AE58-3F8FA406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0F6D5-09F1-4151-87BE-6225E880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280AC-3D4E-4BCD-831E-7B2E9622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9D849-4497-4206-A7DF-6DD89DB9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4AE55-EF14-4A38-A795-D226442C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58670-3E35-4C6D-BF6B-0C8CD9DE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38F46-3760-49A2-ACE4-4A12CE10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9EDBA-04BD-45F9-B05E-0D15EECC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D3946-2431-4686-9AC4-2F72FCD1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1B93A4-33F3-4D98-9465-BF2139B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09A-7688-4C43-B7E2-6A0F958B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1D9E-7226-44C6-886F-158609B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ADE5A-5210-418A-9CFF-6804439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2229E-BB50-42BB-AFDF-4FA9E55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DA03A-7A1D-4A91-962F-27788D85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206B2-01F1-4CFE-A9A0-70C1F566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181FC-879A-4EA3-88DA-59AF3C10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1A3A9-D143-4A62-AC9C-0130A5DE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DACF9-6D26-4040-9807-C5D0861F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56166F-F9B1-4DFE-A7D4-3A663850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66827-48A3-4CDE-8D34-2D174321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60852C-4AF4-49A1-B98A-477F4163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11A0-6A9B-4FAD-A8D4-7134ACF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268D2-78A8-4BA7-9843-5559188C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98E80-6B88-4250-B8BD-1786CDA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BD046-839E-494C-8A77-9D0878EF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98B29-EB59-40F4-9F9D-7D87C27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18F00-6D13-47D6-B7D4-E12439E9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D94B12-1539-4EA9-BD1E-5C5E38AE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F503D-8F2F-42F9-8591-B6081F6E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C786B5-B831-4FA0-9D9D-83BB2F88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DA1D46-C173-4301-B5D3-E7D26F30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8C32B-AA34-4074-8276-504DC476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403F-BD0B-4613-BE72-04EB12AD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44609-53E6-408F-AA7F-B45F8DFF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7F2EB-2469-4C14-9682-B5671632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DF3ED-A230-4AE5-A332-7E8C0F4E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3CFA68-502C-4286-86F9-160B2115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E5ADB0-A539-4DC6-A33F-7EA54CF2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348401-F003-4860-830D-77E5ABDE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9CE1F-2F05-4469-B8FA-5134AA01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B24D5-279C-40B7-9169-E08FE60E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65A0F-AECB-4042-BF4E-CD662BA1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F5D45-5C26-42C5-AC63-C18B20A0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CF1C-889B-4691-9D4F-C30872BA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6EB6B6-0576-4737-8EEF-C7921752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1753C-CC15-419F-9CA0-3E6E2246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C313C8-60B1-4DD1-82E0-58CCD50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15F9D-E45F-48C2-AA7B-A8747898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8CFFA-977B-457C-86D9-4123FDCA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C8280D-F7BC-4BA0-86A1-B5A9E3B8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6B0B28-4AE2-4F20-9284-A4D92DE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2144F-F1DD-404B-9A39-23D9A2F2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9F5F4-4D11-4DFE-BB23-1F9AC618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AC9F7-F17E-4BF7-999B-6CBEBF82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02D2-4DF4-48E6-BBAE-2AE43B2F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F9C44-8B92-40E8-B0C1-63675EEB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857CBE-76E0-4F57-8358-399C2862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97C6A-73CB-45CB-A566-690772D1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D863A9-4A55-4645-971B-43AE0FED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DEAFD-E228-4D88-8E36-FC9BD020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84442-BFE1-4055-9120-3217FD15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D797F-263B-478E-BB28-8F0AAF74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B8F94-6AF7-4A36-BD9D-E45DB65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1D3502-75FB-464D-8F79-34490F2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5F412-8533-4D59-B708-402BDCE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4396-4E4A-45CF-A1FB-C21886C5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C31C1-C1A9-41CF-8017-C36E6CC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AB7AC8-AFC7-40D8-8D1D-580C209B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E22D6C-0DA0-4394-BE46-92DB500E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8E0A-E2DB-453B-B16D-11CA931E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D3E0-61EA-4167-9FF9-E8854397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F423-239E-4FB3-B97C-E0E20D0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E5BE-B524-4A3B-9709-4D541D7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05C-AD9B-4F11-9A78-B64ED3E5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DD5F-70D6-480C-83C1-9594455B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953C-BB04-470C-848D-A1A3ACF5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99EC-B933-4BFB-9BCA-3D44D7F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D378-D76A-419A-B0AA-795A405E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A911-D1CC-4997-B2F6-BE0E1150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EF86-3EEE-449A-A65D-141BE182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B9D5-D67B-4FDC-BC8C-294390EF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8A70-1061-48D6-A1E6-804E4159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6FD1-56F1-472D-BB91-64031288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A8983-2605-408F-9D6E-01580BDE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563-5C87-489E-9CA8-F0E4B274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5CCA-5686-4630-B6A9-6854D7A5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680A-3714-4D9E-A0B3-A4D207CF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F225-0059-44FD-86BC-0F661702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CCDD-E942-495F-83C7-75513ADE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54E28-1519-484D-956B-8BFCD8F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521DA-3FB8-47FE-9E02-3B0DF7C8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7022-D1CD-49DD-A8D7-04BCD5B9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ABCE-7643-4F1B-A537-F9E055FA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F36BE-6465-46F0-8E43-0696EB94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9ED0C-3B60-44EB-9E84-BD664CAB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18D-183B-498D-81F6-16F3A029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9A4A0-CA5A-4A03-ABEB-195B210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7D1B-7F96-478D-B291-910487B8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C45B-19E8-43B7-869B-631AB410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6806-3DC0-48D3-8498-2FF837A4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8487F-E750-4412-B526-04B1EB12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2D71F-BE6D-4D4A-85AC-2BBACCC0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5836-964D-4512-B69F-5811C3A0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8DC65-0FC7-4B5E-AA3A-9722099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25BC6-70A6-4BD5-BC71-4F2E1854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F47FA-2BE0-4675-A808-E2AB14EB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3A0-B6C0-434F-9C1B-25961F23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1138-70B2-4BB5-9159-10BFA93A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0788-8D1B-4EEE-A81C-B6F413A1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1D8E6-DDA4-497F-9732-DDD7D114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CF32-097B-49B1-8849-78C1D6ED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1E1CD-C518-4DFD-A3A6-40D69B98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DDD33-6054-45E7-BD7F-30906F28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E3C44-F2F2-4EBA-9B5C-869EF4F7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C5C9D-4BE4-41D3-B6D2-B099D06F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34276-674C-4FCE-A146-B17A35E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730FA-7F84-4044-B8F2-9288194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905-02A8-45C2-96BB-60AFC0D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CAAAD-E081-4CB1-BFE1-989AF2C5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07A9F-21E0-49E3-AB30-D9CA1854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2859-A7F6-40FB-B9D3-EF334E8C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E6581-7ABC-4659-9CE5-62383D7A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83082-7AAB-4015-AF56-15F084C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90B80-B6CC-471A-9D00-2035123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19D52-DBBB-4183-BD74-77A3ED9C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2E072-9D16-4F4E-A4E1-EBBE68B2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0E49-CC7B-49AC-8A04-3E9EC436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68EE6-5D69-4537-BE4D-27ABD58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773-43A8-42A6-8402-28A7D60C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E6841-CC6D-467E-A444-3CD00524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7CBD8-CFBA-49EE-AF29-46FFDD4D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51DBF-4A80-4064-BF6A-59560630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3CDF2-82E0-4D70-B542-23A9A298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771A0-63FA-48C8-88B9-7F00730A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EC722-666C-4E87-BFA6-EE3A49E7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0A423-06F7-4D24-B234-ABFA24DA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5894A-622E-4AD0-B7BF-829E546C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CC884-B4E4-4589-A816-B1D8D285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81079-FD02-414C-8DB9-514082D5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427-12C3-471D-8AAE-1BA02B8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74869-9B67-4B5A-A151-A199E2CB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433C6-3865-4526-ABAA-84B2A776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A30A0-53C4-4514-8A7B-6841C6D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58B88-0BE7-4165-91D7-D2728CBC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13C5-41CF-4C54-8D45-DAD31313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2DADA-A37B-4B5D-B8BA-0B16374F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9319-A385-4334-B735-2F35EEA4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C919D-D3F9-4C31-A3F7-0F0EB862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A8FCA-3805-439B-B8C7-9758D39D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CB16A-49A8-460B-B42B-DD44AF67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ED2A-BB7E-422F-BD61-D9F224A4EA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189-B81B-4F8A-A275-93378E7BF1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2FC5-40BE-4384-846C-ED411CF1B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91A2-30D1-4A58-B53F-B7F7F56613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59DF-B12A-4B70-A550-BF8C65F5B0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F3C0-2B39-4131-92DF-34F12E9C1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8CAA-5B44-492B-BBCB-3D9CDA82F8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B534-04C6-4FC4-8D2C-0D14345B12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02B6-C20D-4BD1-8DCD-8E3BC989B1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E6B5-4A11-4EAB-BCF3-0799BE22BF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668F-D9BB-4240-87AC-6C3AD6DBE8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8899-2665-46E4-8426-951443EC41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DA9E-D792-4198-B4E0-4A839ECC0D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BD6-3CE1-45DF-A3EE-FE69BAF06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25B8-8B19-44E0-9643-6266DE9BA4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7707-BEF2-4EB9-B10F-61F1D7E44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E045-EFE4-4518-A3AE-5DDC70E6B4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297C-6C3F-45C6-A46F-33C5604A69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8454-A0A2-415C-8DFB-95C22448F5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F893-43F1-4830-AE15-0580C3173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D33D-9239-4CEF-A765-E55AEBACD9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0932-7579-4D71-9051-55E07FAAEC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7AA7-39E6-4AEA-B728-C15944F5F6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710E-B160-4D1E-A858-DE9C863DAA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EA07-6835-4E27-BE7D-966AB2A463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3145-D9B4-408E-B425-8F7D7E133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D3F5-1E8F-4CD5-BA85-2471BAC518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C6D0-9DF9-4EE1-A16E-C8D636D5EF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91C0-2CFF-4890-AD21-CB35E71E3C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D5BD-CCB4-4AAE-BC04-E6EEF15EE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604E-CCB5-4A1D-B188-E14FE5B27D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C70C-29D6-44CE-B17E-DC338B38D2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1C87-6143-4B78-BA09-68C7D3D243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298-6E3E-4D4A-B336-565CC5B62A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71D3-4BA4-4A52-A43B-CC3EEC1B09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6768-1DBB-4FBF-B7C8-71F583276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B9A3-A95A-4908-9ED8-A103ABD66D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2F88-2A71-4E41-8032-4E669FFE9B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F76-0E41-4BF2-8F39-BE882F5CD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5611-6452-4FE1-9179-392BEFE2D8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214800" y="1916280"/>
            <a:ext cx="2714400" cy="9712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300320" y="3470400"/>
            <a:ext cx="6543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519120" y="1481040"/>
            <a:ext cx="8105760" cy="3895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554040" y="2133720"/>
            <a:ext cx="3527280" cy="1871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3960720" cy="512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68360" y="4869000"/>
            <a:ext cx="3960720" cy="5126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788000" y="2060640"/>
            <a:ext cx="3527280" cy="18716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4714920" y="4164120"/>
            <a:ext cx="3960720" cy="5126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4572000" y="4883040"/>
            <a:ext cx="396072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68609" descr=""/>
          <p:cNvPicPr/>
          <p:nvPr/>
        </p:nvPicPr>
        <p:blipFill>
          <a:blip r:embed="rId1"/>
          <a:stretch/>
        </p:blipFill>
        <p:spPr>
          <a:xfrm>
            <a:off x="247680" y="1328760"/>
            <a:ext cx="8648640" cy="4200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755640" y="4249800"/>
            <a:ext cx="8209080" cy="5126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611280" y="4941720"/>
            <a:ext cx="820872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47680" y="512640"/>
            <a:ext cx="8648640" cy="622944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29" descr=""/>
          <p:cNvPicPr/>
          <p:nvPr/>
        </p:nvPicPr>
        <p:blipFill>
          <a:blip r:embed="rId2"/>
          <a:stretch/>
        </p:blipFill>
        <p:spPr>
          <a:xfrm>
            <a:off x="976320" y="3543480"/>
            <a:ext cx="779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466560" y="1062000"/>
            <a:ext cx="8210880" cy="4734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1332000" y="1743120"/>
            <a:ext cx="1368360" cy="512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3059280" y="2406600"/>
            <a:ext cx="1728720" cy="512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6948360" y="24210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2843280" y="4595760"/>
            <a:ext cx="1441440" cy="512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4859280" y="5041800"/>
            <a:ext cx="24494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681120" y="2414520"/>
            <a:ext cx="7781760" cy="202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2916360" y="2622600"/>
            <a:ext cx="1008000" cy="512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4038480" y="3500280"/>
            <a:ext cx="1008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318960" y="747720"/>
            <a:ext cx="8506080" cy="5362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6227640" y="56610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7354" descr=""/>
          <p:cNvPicPr/>
          <p:nvPr/>
        </p:nvPicPr>
        <p:blipFill>
          <a:blip r:embed="rId3"/>
          <a:stretch/>
        </p:blipFill>
        <p:spPr>
          <a:xfrm>
            <a:off x="1457280" y="2776680"/>
            <a:ext cx="67150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295200" y="1123920"/>
            <a:ext cx="8553600" cy="46101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3132000" y="2637000"/>
            <a:ext cx="792360" cy="512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7308720" y="2637000"/>
            <a:ext cx="792360" cy="512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3419640" y="3284640"/>
            <a:ext cx="792000" cy="512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6877080" y="3284640"/>
            <a:ext cx="792000" cy="512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3836880" y="4581360"/>
            <a:ext cx="432000" cy="513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4716360" y="5070600"/>
            <a:ext cx="1800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623880" y="1862280"/>
            <a:ext cx="7896240" cy="3133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3117960" y="184464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934320" y="184464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673680" y="2565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4067280" y="3832200"/>
            <a:ext cx="936360" cy="512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5219640" y="4335480"/>
            <a:ext cx="1440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547560" y="2066760"/>
            <a:ext cx="8048880" cy="2724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6948360" y="3500280"/>
            <a:ext cx="576360" cy="513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3276720" y="4149720"/>
            <a:ext cx="576000" cy="512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164360" y="4164120"/>
            <a:ext cx="576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328680" y="1076400"/>
            <a:ext cx="8486640" cy="47052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3456000" cy="14396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826920" y="4567320"/>
            <a:ext cx="3816360" cy="5126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539640" y="5243400"/>
            <a:ext cx="3816360" cy="513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4932360" y="2492280"/>
            <a:ext cx="3456000" cy="1944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4859280" y="4581360"/>
            <a:ext cx="4033800" cy="513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4859280" y="5243400"/>
            <a:ext cx="403380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21:3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